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737C-71A3-489C-B839-DBD5BF56C1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E06-9D14-4E79-A0AC-00D1DF4DFC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905280" y="8667720"/>
            <a:ext cx="296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5F1-AC9E-4871-974A-41FF04D5CB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6720" y="4334040"/>
            <a:ext cx="49975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8BD-CC72-4CBE-9055-4B83B03A6B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905280" y="8667720"/>
            <a:ext cx="296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3D88-AAA1-40C3-AAEC-B0D8363D1C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6720" y="4334040"/>
            <a:ext cx="49975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4888-7599-4F0A-964B-D14821F79D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905280" y="8667720"/>
            <a:ext cx="296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ED5D-2DB2-49E9-A1B5-A651C2DCCB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334040"/>
            <a:ext cx="49975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e German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MSA proposal (PortPlus 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B2E-87D9-4B69-BAB7-5CE73FDA17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05280" y="8667720"/>
            <a:ext cx="296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4C0-C930-4021-BC51-4E34AE5AB8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6720" y="4334040"/>
            <a:ext cx="49975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mplementation: short term 3 messages quicker and cheaper to implement. Long term portplus che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uture ready: Because of new structure portplus is much easyer to ammend. Old system will have higher costs every ammen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rrelation: old system only very difficult via ETA, new portplus very easy via shipcall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terfacing with Thetis: because of correlation between message very difficult for ol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Query: portplus gives voyage info via shipcall Id, much more informati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ta Quality: the best result at the source of information LCA/Ports/agent. (correlation of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2D9A-151C-44B5-AD05-BCF7FD94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D7C7-A946-4D47-A4EC-A3C06B4A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48B0-9588-41C6-A3D6-098CCC6B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9A51-05DF-48E3-B6EA-421C09C2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6200" y="129492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9162-4E12-4329-A263-1F434F1F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9A691-6ED5-4FF6-B4D6-7F965D6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AAC2-23B1-4A5F-A221-1D5C758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D002-0F7F-4142-B98E-2EE6BE69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6200" y="129492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AFB8-634D-4111-991E-9FAFBB02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F9F2-F08E-4765-B86B-D99CAD2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D1F9-1EFC-4E12-8CAE-44C00E8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2ACB-8DAC-47CB-9B4F-7E4A205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fbd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fbd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37120" y="6611400"/>
            <a:ext cx="24163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26F-2F50-4289-83F3-80FDD3F0EE07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46453" t="15444" r="46291" b="20658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71600" y="6434280"/>
            <a:ext cx="241488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037120" y="6423120"/>
            <a:ext cx="31543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jkswatersta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62640" y="0"/>
            <a:ext cx="4581360" cy="6858000"/>
          </a:xfrm>
          <a:prstGeom prst="rect">
            <a:avLst/>
          </a:prstGeom>
          <a:solidFill>
            <a:srgbClr val="fbd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6760" y="2877840"/>
            <a:ext cx="3598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5036760" y="6515280"/>
            <a:ext cx="39322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01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40" indent="60660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40" indent="606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440" indent="6066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440" indent="606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440" indent="606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000" y="2877840"/>
            <a:ext cx="4248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SafeSeaNet V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643280" y="3730680"/>
            <a:ext cx="35467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first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.Koe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otterdam Port auth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jun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6BB18636-5859-48D0-997A-DBED459FB38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Agenda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lem/Challe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MCj04375330000[1]"/>
          <p:cNvPicPr/>
          <p:nvPr/>
        </p:nvPicPr>
        <p:blipFill>
          <a:blip r:embed="rId1"/>
          <a:stretch/>
        </p:blipFill>
        <p:spPr>
          <a:xfrm>
            <a:off x="5769000" y="3657600"/>
            <a:ext cx="2386080" cy="21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237B-1BFA-47FF-B000-5830886397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734C-6166-4C12-B454-CF4B64DE296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Assignment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2068200"/>
            <a:ext cx="8401320" cy="146988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marL="433440" indent="-43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uring SSN 10 the Working Group Technical got the assignment to think about future development of SS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the end of 2008 the Commission agreed to use SSN for the new PSC legislation.</a:t>
            </a: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98720" y="3747960"/>
            <a:ext cx="4760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noAutofit/>
          </a:bodyPr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GB" sz="1200" spc="-1" strike="noStrike">
                <a:solidFill>
                  <a:srgbClr val="3c1508"/>
                </a:solidFill>
                <a:latin typeface="Arial"/>
              </a:rPr>
              <a:t>Members of W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the United Kingdom,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Ita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Ireland, 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German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the Netherlands, 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Franc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Greece, 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Norwa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Belgium, 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Pola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Malta, 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PSC representati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3440" indent="-433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Sweden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c1508"/>
                </a:solidFill>
                <a:latin typeface="Arial"/>
              </a:rPr>
              <a:t>Den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D7AB-E326-45FB-B736-786FAF505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6AF3773C-1556-4F8B-AC15-283781A496F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Problem/Challenge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a solution for the PSC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vent a patchwork situation in SS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are for future develop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>
              <a:spcBef>
                <a:spcPts val="451"/>
              </a:spcBef>
              <a:buNone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-3621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-3621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 proposal 2009/0005 (IMO F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-3621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732040" y="3363840"/>
            <a:ext cx="163440" cy="1284480"/>
          </a:xfrm>
          <a:custGeom>
            <a:avLst/>
            <a:gdLst>
              <a:gd name="textAreaLeft" fmla="*/ 0 w 163440"/>
              <a:gd name="textAreaRight" fmla="*/ 59040 w 163440"/>
              <a:gd name="textAreaTop" fmla="*/ 33480 h 1284480"/>
              <a:gd name="textAreaBottom" fmla="*/ 1251000 h 128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c1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F295-C3D5-49F0-8DAB-54934A580D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160D2C65-4FCA-44B0-B458-E7AD18AE9F9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Possible Solutions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new messages for missing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19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ival mes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19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arture mes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19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day pre-arrival message (PS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new notification mes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AB16-93E5-434D-A166-1A9FF76102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611284A4-97E8-4203-898B-45E77A89A4F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c1508"/>
                </a:solidFill>
                <a:latin typeface="Verdana"/>
              </a:rPr>
              <a:t>Pro’s &amp; Contra’s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1916280"/>
          <a:ext cx="8101080" cy="3332160"/>
        </p:xfrm>
        <a:graphic>
          <a:graphicData uri="http://schemas.openxmlformats.org/drawingml/2006/table">
            <a:tbl>
              <a:tblPr/>
              <a:tblGrid>
                <a:gridCol w="4130640"/>
                <a:gridCol w="2114640"/>
                <a:gridCol w="1855800"/>
              </a:tblGrid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parate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rtPlus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tion (Short ter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(Long ter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uture 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rrelation of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ata exchange with The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Query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53E9-DD15-4390-B6EF-91B5FA7112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F5A70220-21F5-4D4B-B012-AD55E51AA7E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6200" y="129492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Solution WGT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ew combined notification message (called Portplus mess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unique Call Reference Number (called ShipCall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sage Chain management (New/Update/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3440" indent="-433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ear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89B4-1A31-48E0-B13A-FC3246535D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6"/>
          <p:cNvSpPr/>
          <p:nvPr/>
        </p:nvSpPr>
        <p:spPr>
          <a:xfrm>
            <a:off x="442800" y="3889440"/>
            <a:ext cx="8348760" cy="2341440"/>
          </a:xfrm>
          <a:prstGeom prst="rect">
            <a:avLst/>
          </a:prstGeom>
          <a:solidFill>
            <a:srgbClr val="fff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449280" y="1565280"/>
            <a:ext cx="5811840" cy="2320920"/>
          </a:xfrm>
          <a:prstGeom prst="rect">
            <a:avLst/>
          </a:prstGeom>
          <a:solidFill>
            <a:srgbClr val="94f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00960" cy="4921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1508"/>
                </a:solidFill>
                <a:latin typeface="Verdana"/>
              </a:rPr>
              <a:t>Advantage of a combined message</a:t>
            </a:r>
            <a:endParaRPr b="0" lang="en-US" sz="2600" spc="-1" strike="noStrike">
              <a:solidFill>
                <a:srgbClr val="3c1508"/>
              </a:solidFill>
              <a:latin typeface="Verdana"/>
            </a:endParaRPr>
          </a:p>
        </p:txBody>
      </p:sp>
      <p:sp>
        <p:nvSpPr>
          <p:cNvPr id="120" name="Slide Number Placeholder 3"/>
          <p:cNvSpPr/>
          <p:nvPr/>
        </p:nvSpPr>
        <p:spPr>
          <a:xfrm rot="16200000">
            <a:off x="8538840" y="640044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fld id="{F5043012-2B0B-4AB8-AB4B-60AC2AD056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092320" y="1751040"/>
            <a:ext cx="3859200" cy="534960"/>
          </a:xfrm>
          <a:prstGeom prst="rect">
            <a:avLst/>
          </a:prstGeom>
          <a:solidFill>
            <a:srgbClr val="92d05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Vessel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92320" y="2278080"/>
            <a:ext cx="3859200" cy="534960"/>
          </a:xfrm>
          <a:prstGeom prst="rect">
            <a:avLst/>
          </a:prstGeom>
          <a:solidFill>
            <a:srgbClr val="92d05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Voy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092320" y="2805120"/>
            <a:ext cx="3859200" cy="534960"/>
          </a:xfrm>
          <a:prstGeom prst="rect">
            <a:avLst/>
          </a:prstGeom>
          <a:solidFill>
            <a:srgbClr val="92d05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PSC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092320" y="3348000"/>
            <a:ext cx="3859200" cy="534960"/>
          </a:xfrm>
          <a:prstGeom prst="rect">
            <a:avLst/>
          </a:prstGeom>
          <a:solidFill>
            <a:srgbClr val="92d05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HAZ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09760" y="3889440"/>
            <a:ext cx="3859200" cy="534960"/>
          </a:xfrm>
          <a:prstGeom prst="rect">
            <a:avLst/>
          </a:prstGeom>
          <a:solidFill>
            <a:srgbClr val="ffc00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511360" y="4432320"/>
            <a:ext cx="3857760" cy="534960"/>
          </a:xfrm>
          <a:prstGeom prst="rect">
            <a:avLst/>
          </a:prstGeom>
          <a:solidFill>
            <a:srgbClr val="ffc00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697120" y="4975200"/>
            <a:ext cx="3859200" cy="534960"/>
          </a:xfrm>
          <a:prstGeom prst="rect">
            <a:avLst/>
          </a:prstGeom>
          <a:solidFill>
            <a:srgbClr val="ffc00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913120" y="5510160"/>
            <a:ext cx="3859200" cy="533520"/>
          </a:xfrm>
          <a:prstGeom prst="rect">
            <a:avLst/>
          </a:prstGeom>
          <a:solidFill>
            <a:srgbClr val="ffc000"/>
          </a:solidFill>
          <a:ln w="9360">
            <a:solidFill>
              <a:srgbClr val="b2a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…………</a:t>
            </a:r>
            <a:r>
              <a:rPr b="1" lang="en-US" sz="2800" spc="-1" strike="noStrike">
                <a:solidFill>
                  <a:srgbClr val="0e4a1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Rectangle 15" descr=""/>
          <p:cNvPicPr/>
          <p:nvPr/>
        </p:nvPicPr>
        <p:blipFill>
          <a:blip r:embed="rId1"/>
          <a:stretch/>
        </p:blipFill>
        <p:spPr>
          <a:xfrm>
            <a:off x="182520" y="1414440"/>
            <a:ext cx="1895400" cy="242568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7" descr=""/>
          <p:cNvPicPr/>
          <p:nvPr/>
        </p:nvPicPr>
        <p:blipFill>
          <a:blip r:embed="rId2"/>
          <a:stretch/>
        </p:blipFill>
        <p:spPr>
          <a:xfrm>
            <a:off x="195120" y="2627280"/>
            <a:ext cx="1895760" cy="24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afeSeaNet V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3C8E-5A7C-4CAB-8380-19DE3A9576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 june 20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7:03:25Z</dcterms:created>
  <dc:creator>Foeken</dc:creator>
  <dc:description/>
  <dc:language>en-US</dc:language>
  <cp:lastModifiedBy>KOERTC</cp:lastModifiedBy>
  <dcterms:modified xsi:type="dcterms:W3CDTF">2009-06-12T08:41:02Z</dcterms:modified>
  <cp:revision>10</cp:revision>
  <dc:subject/>
  <dc:title>AIS bij het Kustwachtcentrum</dc:title>
</cp:coreProperties>
</file>